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4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6A84-84E0-4169-8A4D-B42995E4D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ECCA-3068-4EEE-8C38-465773FB1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34B0-48E9-409C-A7B5-359DC3E46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FE18-E16C-4D3C-A0BD-814AE629B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58B4-46BC-44F2-891F-D7C4E8401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1837-B8BB-4D6E-9A38-0BE4AEC84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3AE0-1EB6-4CCC-AAA2-DA16B8917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2A26-7C98-4DB1-A4FE-58D0530FB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206C-1732-44C7-9FDC-81F51D806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CFB1-5684-4D9C-BB16-48DD92CEC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2FDA-A4FF-4448-A662-BF2248A1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4C5C-BDFF-4EB4-99E3-51FCC25D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0F8E1-AD96-4E5D-A7C9-169A95AF5A6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7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290520" y="993600"/>
            <a:ext cx="8562960" cy="2219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1692360" y="4149720"/>
            <a:ext cx="7072200" cy="673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609560" y="4941720"/>
            <a:ext cx="7237440" cy="774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1744560" y="5788080"/>
            <a:ext cx="712332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2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97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6" descr=""/>
          <p:cNvPicPr/>
          <p:nvPr/>
        </p:nvPicPr>
        <p:blipFill>
          <a:blip r:embed="rId3"/>
          <a:stretch/>
        </p:blipFill>
        <p:spPr>
          <a:xfrm>
            <a:off x="114480" y="1484280"/>
            <a:ext cx="891540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2" descr=""/>
          <p:cNvPicPr/>
          <p:nvPr/>
        </p:nvPicPr>
        <p:blipFill>
          <a:blip r:embed="rId1"/>
          <a:stretch/>
        </p:blipFill>
        <p:spPr>
          <a:xfrm>
            <a:off x="1187280" y="3997440"/>
            <a:ext cx="7696440" cy="20955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"/>
          <p:cNvPicPr/>
          <p:nvPr/>
        </p:nvPicPr>
        <p:blipFill>
          <a:blip r:embed="rId2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3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"/>
          <p:cNvPicPr/>
          <p:nvPr/>
        </p:nvPicPr>
        <p:blipFill>
          <a:blip r:embed="rId4"/>
          <a:stretch/>
        </p:blipFill>
        <p:spPr>
          <a:xfrm>
            <a:off x="1197000" y="1052640"/>
            <a:ext cx="7696080" cy="1028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"/>
          <p:cNvPicPr/>
          <p:nvPr/>
        </p:nvPicPr>
        <p:blipFill>
          <a:blip r:embed="rId5"/>
          <a:stretch/>
        </p:blipFill>
        <p:spPr>
          <a:xfrm>
            <a:off x="1908000" y="2871720"/>
            <a:ext cx="6963120" cy="486000"/>
          </a:xfrm>
          <a:prstGeom prst="rect">
            <a:avLst/>
          </a:prstGeom>
          <a:ln w="0">
            <a:noFill/>
          </a:ln>
        </p:spPr>
      </p:pic>
      <p:sp>
        <p:nvSpPr>
          <p:cNvPr id="89" name="عنوان 1"/>
          <p:cNvSpPr/>
          <p:nvPr/>
        </p:nvSpPr>
        <p:spPr>
          <a:xfrm>
            <a:off x="324000" y="343224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. بل هو شامل لكل الجسم والوجه منه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عنوان 1"/>
          <p:cNvSpPr/>
          <p:nvPr/>
        </p:nvSpPr>
        <p:spPr>
          <a:xfrm>
            <a:off x="250920" y="609300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فسير القرآن الكريم بالسنة النبوي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13" descr=""/>
          <p:cNvPicPr/>
          <p:nvPr/>
        </p:nvPicPr>
        <p:blipFill>
          <a:blip r:embed="rId6"/>
          <a:stretch/>
        </p:blipFill>
        <p:spPr>
          <a:xfrm>
            <a:off x="250920" y="2060640"/>
            <a:ext cx="86421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50"/>
          <a:stretch/>
        </p:blipFill>
        <p:spPr>
          <a:xfrm>
            <a:off x="290520" y="2852640"/>
            <a:ext cx="8602560" cy="9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8351640" cy="3097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62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922480" y="4797360"/>
            <a:ext cx="34419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04840" y="1700280"/>
            <a:ext cx="8640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عد ذكر أحوال التعساء  ذكر أحوال يوم القيام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2430360" y="1052640"/>
            <a:ext cx="6462720" cy="58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108000" y="1012680"/>
            <a:ext cx="8901000" cy="56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2" descr=""/>
          <p:cNvPicPr/>
          <p:nvPr/>
        </p:nvPicPr>
        <p:blipFill>
          <a:blip r:embed="rId1"/>
          <a:stretch/>
        </p:blipFill>
        <p:spPr>
          <a:xfrm>
            <a:off x="250920" y="2289240"/>
            <a:ext cx="8642160" cy="4379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"/>
          <p:cNvPicPr/>
          <p:nvPr/>
        </p:nvPicPr>
        <p:blipFill>
          <a:blip r:embed="rId2"/>
          <a:stretch/>
        </p:blipFill>
        <p:spPr>
          <a:xfrm>
            <a:off x="179280" y="1052640"/>
            <a:ext cx="8869320" cy="936360"/>
          </a:xfrm>
          <a:prstGeom prst="rect">
            <a:avLst/>
          </a:prstGeom>
          <a:ln w="0">
            <a:noFill/>
          </a:ln>
        </p:spPr>
      </p:pic>
      <p:sp>
        <p:nvSpPr>
          <p:cNvPr id="55" name="عنوان 1"/>
          <p:cNvSpPr/>
          <p:nvPr/>
        </p:nvSpPr>
        <p:spPr>
          <a:xfrm>
            <a:off x="395280" y="60213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علو وجوههم النا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7" descr=""/>
          <p:cNvPicPr/>
          <p:nvPr/>
        </p:nvPicPr>
        <p:blipFill>
          <a:blip r:embed="rId3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395280" y="5410080"/>
            <a:ext cx="4824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خرجوا من القبور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395280" y="486900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غالب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مستطيل 1"/>
          <p:cNvSpPr/>
          <p:nvPr/>
        </p:nvSpPr>
        <p:spPr>
          <a:xfrm>
            <a:off x="8604360" y="1700280"/>
            <a:ext cx="288720" cy="144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179280" y="14842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له تعالى لا يخلف وعده أبداً في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نصرة الحق وأهله وفي الانتقام من الباطل وحزب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189000" y="2043000"/>
            <a:ext cx="8665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عظم يوم القيام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فيه من اهوال وتغييرات كون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179280" y="2492280"/>
            <a:ext cx="8666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يمان بالبعث وقيام الموتى من قبورهم للحساب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0680" y="3038400"/>
            <a:ext cx="86662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أحوال المجرمين عند العرض وفي جهن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مقيدين بالقيود  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وقمصانهم من نحاس مذاب  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وتغطي وجوهم النا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3841920"/>
            <a:ext cx="866628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عزوجل لا يظلم أحداً ولا يهلك الله إلا م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يستحق الهلاك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179280" y="4319640"/>
            <a:ext cx="86662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حاطته سبحانه بكل شيء فلا يشغله شان عن شأن بل يحاسب الناس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جميعاً في وقت واح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79280" y="480384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فاية القرآن الكريم في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بلاغ والإنذار وقيام الحجة على الناس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sp>
        <p:nvSpPr>
          <p:cNvPr id="69" name="عنوان 1"/>
          <p:cNvSpPr/>
          <p:nvPr/>
        </p:nvSpPr>
        <p:spPr>
          <a:xfrm>
            <a:off x="179280" y="5319720"/>
            <a:ext cx="8666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آيات الله عز وجل المقروءة والمشاهدة تدل عل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حدانية الله تعالى وهي عظة لأولى الألبا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252360" y="2419200"/>
            <a:ext cx="864072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الله يملي للظالم حتى إذا أخذه لم يفلت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6" descr=""/>
          <p:cNvPicPr/>
          <p:nvPr/>
        </p:nvPicPr>
        <p:blipFill>
          <a:blip r:embed="rId3"/>
          <a:stretch/>
        </p:blipFill>
        <p:spPr>
          <a:xfrm>
            <a:off x="3059280" y="976320"/>
            <a:ext cx="58672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29T15:35:33Z</dcterms:modified>
  <cp:revision>1881</cp:revision>
  <dc:subject/>
  <dc:title>عرض تقديمي في PowerPoint</dc:title>
</cp:coreProperties>
</file>